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76AA-EDB9-4D27-8A00-A9D0C3B3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3D2-D57A-4C23-B0B4-19F85D68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07E-634E-4BD4-89AA-B5554C76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598-71F3-48DC-8D6E-83C5E6B5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88EC-6DA2-4481-A59F-998066F4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DE16-CAD2-4061-8250-5B83AE53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445F-464C-4A9F-A195-63A676E1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3AAF-CF73-4A22-A739-465B02CD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981B-C492-4D40-906E-A93131F5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07F6-D75D-40A2-891F-810EA4FA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3D68-83C4-491B-8DB2-07684235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298-BC77-4C0D-B832-50ADA974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8F15-6E90-4CCD-95EB-0493E3F7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CA83-2622-4941-A4BE-0368F200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5972-4A5E-4C26-8B4F-17B4632A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55F2-E051-4189-BD45-ECC14D11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4944-AE01-4B37-A2EB-641B75F0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A3B-D064-4018-9BA5-47889C51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C14-A18C-4D5C-9995-BE2D8FEC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F03-8AB8-400F-82BC-0125E4AF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6BA-C45F-4970-9038-4BFE4FA3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4AAD-7DA3-40E4-9F81-6F664C4A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EA1-51F2-4A46-9C30-90C30A39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472-66A2-43E2-A2E1-02719E76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6734-B2A7-4315-8B1D-5671B42EC1F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C6E0-3A62-4F6B-B8A0-EC6A535010F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1" descr=""/>
          <p:cNvPicPr/>
          <p:nvPr/>
        </p:nvPicPr>
        <p:blipFill>
          <a:blip r:embed="rId1"/>
          <a:srcRect l="36855" t="12844" r="35250" b="43012"/>
          <a:stretch/>
        </p:blipFill>
        <p:spPr>
          <a:xfrm>
            <a:off x="4038480" y="533520"/>
            <a:ext cx="587520" cy="5857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Проект бюджета Новоминского сельского поселения Каневского района на 2019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57200" y="609480"/>
            <a:ext cx="8228880" cy="5499000"/>
            <a:chOff x="457200" y="609480"/>
            <a:chExt cx="8228880" cy="5499000"/>
          </a:xfrm>
        </p:grpSpPr>
        <p:cxnSp>
          <p:nvCxnSpPr>
            <p:cNvPr id="159" name="_s7182"/>
            <p:cNvCxnSpPr>
              <a:stCxn id="160" idx="0"/>
              <a:endCxn id="161" idx="2"/>
            </p:cNvCxnSpPr>
            <p:nvPr/>
          </p:nvCxnSpPr>
          <p:spPr>
            <a:xfrm flipV="1" rot="16200000">
              <a:off x="5461200" y="1918080"/>
              <a:ext cx="1100520" cy="2880720"/>
            </a:xfrm>
            <a:prstGeom prst="bentConnector3">
              <a:avLst>
                <a:gd name="adj1" fmla="val 126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2" name="_s7181"/>
            <p:cNvCxnSpPr>
              <a:stCxn id="163" idx="0"/>
              <a:endCxn id="161" idx="2"/>
            </p:cNvCxnSpPr>
            <p:nvPr/>
          </p:nvCxnSpPr>
          <p:spPr>
            <a:xfrm flipV="1">
              <a:off x="4571280" y="2808360"/>
              <a:ext cx="3240" cy="1100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4" name="_s7180"/>
            <p:cNvCxnSpPr>
              <a:stCxn id="165" idx="0"/>
              <a:endCxn id="161" idx="2"/>
            </p:cNvCxnSpPr>
            <p:nvPr/>
          </p:nvCxnSpPr>
          <p:spPr>
            <a:xfrm flipH="1" flipV="1" rot="5400000">
              <a:off x="2581200" y="1918440"/>
              <a:ext cx="1100520" cy="2880720"/>
            </a:xfrm>
            <a:prstGeom prst="bentConnector3">
              <a:avLst>
                <a:gd name="adj1" fmla="val 126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1" name="_s7176"/>
            <p:cNvSpPr/>
            <p:nvPr/>
          </p:nvSpPr>
          <p:spPr>
            <a:xfrm>
              <a:off x="3337200" y="6094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Основа формирова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проек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бюджета Новомин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сельского посел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на 2019 годы</a:t>
              </a: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7177"/>
            <p:cNvSpPr/>
            <p:nvPr/>
          </p:nvSpPr>
          <p:spPr>
            <a:xfrm>
              <a:off x="45720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рогноз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социально-экономиче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развития Новоминск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сельского посел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7178"/>
            <p:cNvSpPr/>
            <p:nvPr/>
          </p:nvSpPr>
          <p:spPr>
            <a:xfrm>
              <a:off x="333720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Основные направл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Бюджетной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и налоговой политики</a:t>
              </a: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Новоминского сель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оселения на 2019 годы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7179"/>
            <p:cNvSpPr/>
            <p:nvPr/>
          </p:nvSpPr>
          <p:spPr>
            <a:xfrm>
              <a:off x="621756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Муниципальные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рограмм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Новоминского сельск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оселения Канев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район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Основные параметры проекта бюджета Новоминского сельского поселения на 2019 год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371600" y="1600200"/>
          <a:ext cx="6629400" cy="4692600"/>
        </p:xfrm>
        <a:graphic>
          <a:graphicData uri="http://schemas.openxmlformats.org/drawingml/2006/table">
            <a:tbl>
              <a:tblPr/>
              <a:tblGrid>
                <a:gridCol w="3314880"/>
                <a:gridCol w="3314520"/>
              </a:tblGrid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 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Доходы всего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3936,5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- налоговые и неналоговые доход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39885,1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- безвозмездные поступле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051,4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в том числе дотация на выравнивание бюджетной обеспеченнос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0,0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2. </a:t>
                      </a: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Расходы всего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3936,5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3. </a:t>
                      </a:r>
                      <a:r>
                        <a:rPr b="1" lang="ru-R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Дефицит (-), профицит (+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0,0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Объем налоговых и неналоговых доходов бюджета Новоминского сельского поселения на 2018 год составил 39885,1 тыс. рублей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алог на доходы физических лиц – 1560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Акцизы по подакцизным товарам (продукции), производимым на территории Российской Федерации  - 5015,1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ЕСХН –119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алоги на имущество – 18080,0 тыс.руб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Земельный налог -1525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2508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Общий объем расходов на 2019 год – 11496,3 тыс. рублей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щегосударственные вопросы- 8831,7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 оборона – 608,1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безопасность и правоохранительная деятельность – 11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 экономика – 8955,8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Жилищно-коммунальное хозяйство – 40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разование – 83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Культура, кинематография – 22880,3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оциальная политика – 290,6 тыс.руб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Физическая культура и спорт – 2235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служивание государственного и муниципального долга – 1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6T06:27:46Z</dcterms:created>
  <dc:creator>Пользователь</dc:creator>
  <dc:description/>
  <dc:language>en-US</dc:language>
  <cp:lastModifiedBy>ГЫУК</cp:lastModifiedBy>
  <dcterms:modified xsi:type="dcterms:W3CDTF">2019-10-18T06:28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